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F00-B7E0-4D3B-8A26-2CB558A3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BC7-A565-4A1B-A09B-A1735A34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7B5-13D1-4E66-B87F-04FA4FE6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9AC-0713-4737-B5EB-AD31BC46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D33F-9CFF-4DBD-A64C-2380AC8C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F91B-FE66-4D8D-822C-EB4CCFD8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7192-74D5-4A61-A290-0D462E5A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42A4-80D2-4974-810F-6D34056B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74C9-47C9-4974-8255-5E6A3E28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285D-3B04-4658-9452-6D337E83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62F2-F84A-4F7A-A3CB-B4E4FA4A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A02-B69E-4B8F-815F-96E590E3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CDF4-8013-4570-91EB-CB5F56F9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E72D-4216-43C9-B652-3258FE8F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9D97-4F21-4B53-9FFB-E8159A08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CC6D-993E-4D14-840F-1741550E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E1E6-6645-4C52-9502-CED968B9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8CA-38AE-44FF-99D3-2C25F767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5D7-391D-464B-9CA3-27BD0B39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A3E-2698-4662-9D0C-4200A956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ECA-C5AB-4A96-8298-A022D301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D35-773B-4D7D-BCD8-A0E0DBE9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329-4F50-49F5-8E96-10F56256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7F5-A2E0-4020-BD63-7C4CAD4B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505320" y="0"/>
            <a:ext cx="5638680" cy="813960"/>
            <a:chOff x="3505320" y="0"/>
            <a:chExt cx="5638680" cy="813960"/>
          </a:xfrm>
        </p:grpSpPr>
        <p:grpSp>
          <p:nvGrpSpPr>
            <p:cNvPr id="1" name=""/>
            <p:cNvGrpSpPr/>
            <p:nvPr/>
          </p:nvGrpSpPr>
          <p:grpSpPr>
            <a:xfrm>
              <a:off x="3505320" y="0"/>
              <a:ext cx="5638320" cy="47880"/>
              <a:chOff x="3505320" y="0"/>
              <a:chExt cx="5638320" cy="47880"/>
            </a:xfrm>
          </p:grpSpPr>
          <p:sp>
            <p:nvSpPr>
              <p:cNvPr id="2" name=""/>
              <p:cNvSpPr/>
              <p:nvPr/>
            </p:nvSpPr>
            <p:spPr>
              <a:xfrm>
                <a:off x="6546240" y="0"/>
                <a:ext cx="2597400" cy="47880"/>
              </a:xfrm>
              <a:prstGeom prst="rect">
                <a:avLst/>
              </a:prstGeom>
              <a:gradFill rotWithShape="0">
                <a:gsLst>
                  <a:gs pos="0">
                    <a:srgbClr val="6702fc"/>
                  </a:gs>
                  <a:gs pos="100000">
                    <a:srgbClr val="1d92f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505320" y="0"/>
                <a:ext cx="3040920" cy="47880"/>
              </a:xfrm>
              <a:prstGeom prst="rect">
                <a:avLst/>
              </a:prstGeom>
              <a:gradFill rotWithShape="0">
                <a:gsLst>
                  <a:gs pos="0">
                    <a:srgbClr val="1d92f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7187760" y="95400"/>
              <a:ext cx="19558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898880" y="95400"/>
              <a:ext cx="22888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88320" y="191520"/>
              <a:ext cx="125532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19520" y="191520"/>
              <a:ext cx="14688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68480" y="287280"/>
              <a:ext cx="8751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243200" y="287280"/>
              <a:ext cx="10252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18400" y="383040"/>
              <a:ext cx="52524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03520" y="383040"/>
              <a:ext cx="6148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52040" y="479160"/>
              <a:ext cx="2916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10040" y="479160"/>
              <a:ext cx="34164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97480" y="574920"/>
              <a:ext cx="1461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27200" y="574920"/>
              <a:ext cx="1702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56880" y="670680"/>
              <a:ext cx="867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953920" y="670680"/>
              <a:ext cx="10296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37840" y="47880"/>
              <a:ext cx="23058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138560" y="47880"/>
              <a:ext cx="269928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7080" y="143640"/>
              <a:ext cx="154692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85920" y="143640"/>
              <a:ext cx="181080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093160" y="239400"/>
              <a:ext cx="10504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63040" y="239400"/>
              <a:ext cx="123012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502480" y="335160"/>
              <a:ext cx="64116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750080" y="335160"/>
              <a:ext cx="7524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734680" y="430920"/>
              <a:ext cx="4089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256960" y="430920"/>
              <a:ext cx="47772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939160" y="526680"/>
              <a:ext cx="2044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700120" y="526680"/>
              <a:ext cx="2386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027720" y="622800"/>
              <a:ext cx="11592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890200" y="622800"/>
              <a:ext cx="13716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085680" y="718560"/>
              <a:ext cx="579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017280" y="718560"/>
              <a:ext cx="6840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114840" y="766440"/>
              <a:ext cx="288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080280" y="766440"/>
              <a:ext cx="342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" name=""/>
          <p:cNvSpPr/>
          <p:nvPr/>
        </p:nvSpPr>
        <p:spPr>
          <a:xfrm>
            <a:off x="-4114800" y="1371600"/>
            <a:ext cx="8229240" cy="53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2" y="0"/>
                </a:moveTo>
                <a:arcTo wR="10800" hR="10800" stAng="-5396203" swAng="10787241"/>
                <a:lnTo>
                  <a:pt x="10800" y="10800"/>
                </a:lnTo>
                <a:close/>
              </a:path>
              <a:path fill="none" w="21600" h="21600">
                <a:moveTo>
                  <a:pt x="10812" y="0"/>
                </a:moveTo>
                <a:arcTo wR="10800" hR="10800" stAng="-5396203" swAng="10787241"/>
              </a:path>
            </a:pathLst>
          </a:custGeom>
          <a:gradFill rotWithShape="0">
            <a:gsLst>
              <a:gs pos="0">
                <a:srgbClr val="1d92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43F9-8ACC-47ED-98A1-0495BD0BE7DE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7794720" y="2590920"/>
            <a:ext cx="1554444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2" y="0"/>
                </a:moveTo>
                <a:arcTo wR="10800" hR="10800" stAng="-5396203" swAng="10787241"/>
                <a:lnTo>
                  <a:pt x="10800" y="10800"/>
                </a:lnTo>
                <a:close/>
              </a:path>
              <a:path fill="none" w="21600" h="21600">
                <a:moveTo>
                  <a:pt x="10812" y="0"/>
                </a:moveTo>
                <a:arcTo wR="10800" hR="10800" stAng="-5396203" swAng="10787241"/>
              </a:path>
            </a:pathLst>
          </a:custGeom>
          <a:gradFill rotWithShape="0">
            <a:gsLst>
              <a:gs pos="0">
                <a:srgbClr val="1d92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2B69-3CBC-4978-93EA-7ACD4B564B73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286680" y="22860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657600" y="1981080"/>
            <a:ext cx="1895400" cy="2505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 Narrow"/>
              </a:rPr>
              <a:t>“</a:t>
            </a:r>
            <a:r>
              <a:rPr b="1" i="1" lang="en-US" sz="5400" spc="-1" strike="noStrike">
                <a:solidFill>
                  <a:srgbClr val="ffcc00"/>
                </a:solidFill>
                <a:latin typeface="Arial Narrow"/>
              </a:rPr>
              <a:t>How Long, O Lord?”</a:t>
            </a:r>
            <a:endParaRPr b="0" i="1" lang="en-US" sz="5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13, Lesson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brews 7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61-6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76480"/>
            <a:ext cx="9144000" cy="568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752480" y="228600"/>
            <a:ext cx="575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pies of the Heavenl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1717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0955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 Narrow"/>
              </a:rPr>
              <a:t>The Heavenly Thing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a better sacrifice – 9: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tter place to take the sacrifice 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equate enough to last forever -25-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ing in a great reward – 27-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1844 Cleansing of the Sanctuary"/>
          <p:cNvPicPr/>
          <p:nvPr/>
        </p:nvPicPr>
        <p:blipFill>
          <a:blip r:embed="rId3"/>
          <a:stretch/>
        </p:blipFill>
        <p:spPr>
          <a:xfrm>
            <a:off x="7391520" y="4762440"/>
            <a:ext cx="1752480" cy="2095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0" y="4419720"/>
            <a:ext cx="1515960" cy="243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895480" y="4648320"/>
            <a:ext cx="31752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797120" cy="2590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Narrow"/>
              </a:rPr>
              <a:t>Hebrews</a:t>
            </a:r>
            <a:br>
              <a:rPr sz="3600"/>
            </a:br>
            <a:r>
              <a:rPr b="1" i="1" lang="en-US" sz="3600" spc="-1" strike="noStrike">
                <a:solidFill>
                  <a:srgbClr val="ffcc00"/>
                </a:solidFill>
                <a:latin typeface="Arial Narrow"/>
              </a:rPr>
              <a:t>Three Major Sections</a:t>
            </a:r>
            <a:endParaRPr b="0" i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ristianity H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Better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Apostl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: Jesus Christ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(1:1-2:1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13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ristianity H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Better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High Pries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: Jesus Christ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(3:1-10:1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13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ristianity Has A Worthy Expectation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ustaining Faith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(10:19-13:2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143000" y="152280"/>
            <a:ext cx="666756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BRIEF OUTLINE OF TH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OOK OF HEBREW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509840"/>
            <a:ext cx="792504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RIST SUPERIOR TO THE THINGS OF THE OLD TESTA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. TO THE ANGELS C#1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. TO MOSES 3:1-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. REST 3:7-4: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. TO THE LEVITICAL PRIESTHOOD 4:14-7: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. COVENANT 8:1-9: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. SACRIFICES 9:23-10: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HORTATION TO REMAIN STEADFAST TO CHR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. REMEMBER THE PUNISHMENT THAT COMES TO THOSE WHO DILIBERATELY SIN 10:19-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. REMEMBER THE OLD TESTAMENT WITNESSES C#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. RUN THE CHRISTIAN RACE 12:1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. ENDURE THE CHASTENING OF THE LORD 12:3-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. KEEP YOUR FOCUS ON THE GOAL OF ETERNAL REWARD 12:12-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CLUSION C!#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2819520"/>
            <a:ext cx="5715000" cy="6094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152280"/>
            <a:ext cx="666756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BRIEF OUTLINE OF TH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OOK OF HEBREW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509840"/>
            <a:ext cx="792504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RIST SUPERIOR TO THE THINGS OF THE OLD TESTA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. TO THE ANGELS C#1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. TO MOSES 3:1-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. REST 3:7-4: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 TO THE LEVITICAL PRIESTHOOD 4:14-7: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. COVENANT 8:1-9: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. SACRIFICES 9:23-10: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HORTATION TO REMAIN STEADFAST TO CHR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. REMEMBER THE PUNISHMENT THAT COMES TO THOSE WHO DILIBERATELY SIN 10:19-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. REMEMBER THE OLD TESTAMENT WITNESSES C#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. RUN THE CHRISTIAN RACE 12:1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. ENDURE THE CHASTENING OF THE LORD 12:3-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. KEEP YOUR FOCUS ON THE GOAL OF ETERNAL REWARD 12:12-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CLUSION C!#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931080" y="0"/>
            <a:ext cx="2212920" cy="2757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The Priesthood of Jesu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order of Melchizedek -7:1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in that it was before Abra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in that it has no mention of an 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in that He was King AND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in that he was king of righteousness AND Pe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r Than Abraham or Levi – 7:4-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931080" y="0"/>
            <a:ext cx="2212920" cy="2757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The Priesthood of Jesu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order of Melchizedek -7:1-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fficiency of Levitical Priesthood called for the new and better priest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Psalm 110 predicted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, change of priesthood also requires change of Law – 7:11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’ priesthood is better because it is unchanging -7:15-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ives better hope, promises, and covenant (7:18-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is completely adequate – (7:20-2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1080" y="0"/>
            <a:ext cx="2212920" cy="27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The Priesthood of Jesu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ltimate High Prie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ultimate taberna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Ultimate sacrifice –(8:1-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ting a better covenant with better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e New Covenan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esied by Jeremiah 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ed that the first covenant needed to be changed (was faulty) – 8:7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y in that it was not designed to meet all the inward needs of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a means to an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growing “old” as Jeremiah said “ne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“old” thing becomes “obsolete” when the new comes into 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w covenant would be adeq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4289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Arial Narrow"/>
              </a:rPr>
              <a:t>The Old Tabernacle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etter Sanctuary (9:1-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The Imperfection of the Earthly Sanctuary (9:1-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as symbolic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pointed to a better taberna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 The Perfection of the Heavenly Sanctuary (9:11-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etter Sacrifice (9:13–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The Necessity of Shed Blood (9:13-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 The Purification of the Heavenly Sanctuary (9:23-2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22:03:37Z</dcterms:created>
  <dc:creator> Tab Vines</dc:creator>
  <dc:description/>
  <dc:language>en-US</dc:language>
  <cp:lastModifiedBy> Tab Vines</cp:lastModifiedBy>
  <dcterms:modified xsi:type="dcterms:W3CDTF">2007-08-18T00:09:05Z</dcterms:modified>
  <cp:revision>3</cp:revision>
  <dc:subject/>
  <dc:title>“How Long, O Lord?”</dc:title>
</cp:coreProperties>
</file>